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865938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D149-D203-4CD4-ACBA-B9830341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A246-2E66-4CD9-B0E9-A0EDB784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4757-8B85-444F-8F3C-FB26023E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7B58-4DD1-43FB-9210-445028C5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C9B9-1D01-4BB0-A48B-D98EA1E8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CB5E-67DD-45FC-BF80-772CB88B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841F-B4AF-4538-B57C-7FE51A28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ECF2-8669-4958-9BA2-18F48816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6675-AAE5-4E91-ADE1-4F93C8C8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E9F0-10E6-4C40-A0B4-EB8A258D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C141-BE98-4C96-BEDA-505D5A79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5537-8ECF-45FC-A272-8BF51DC8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4967-F5D1-4383-B055-7D1B5D27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D8AB-3A8B-4892-9C8D-98D70971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99A7-A5FD-4BEB-B8A9-3A34FBB1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C0F1-A8AC-4AD6-BF74-70F4ABD3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FECE-6112-4AF0-931A-08567F92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1C30-8646-402F-84A0-257BEB6C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5A4C-9807-42CB-A42A-B82891DE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A3D8-305A-40B6-A556-BC29506F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3F06-99F7-49CA-8186-ED67C5E2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B0D4-D9A1-4A2C-ACFB-90D60DC8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629B-B37B-4CCD-B612-3DA49616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A96B-CFD8-4713-B8D5-A00C405A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89CD-234F-48C0-B566-E29AC3950A97}" type="slidenum">
              <a:rPr b="0" lang="es-E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33280" y="76320"/>
            <a:ext cx="9409680" cy="6781680"/>
            <a:chOff x="233280" y="76320"/>
            <a:chExt cx="940968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33280" y="76320"/>
              <a:ext cx="9409680" cy="336600"/>
              <a:chOff x="233280" y="76320"/>
              <a:chExt cx="940968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33280" y="76320"/>
                <a:ext cx="1815480" cy="336600"/>
                <a:chOff x="233280" y="76320"/>
                <a:chExt cx="181548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141200" y="76320"/>
                  <a:ext cx="90756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141200" y="244800"/>
                  <a:ext cx="90756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33280" y="244800"/>
                  <a:ext cx="90792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33280" y="76320"/>
                  <a:ext cx="90792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324000" y="160200"/>
                  <a:ext cx="1633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2131560" y="76320"/>
                <a:ext cx="1815480" cy="336600"/>
                <a:chOff x="2131560" y="76320"/>
                <a:chExt cx="181548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3039480" y="76320"/>
                  <a:ext cx="90756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3039480" y="244800"/>
                  <a:ext cx="90756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2131560" y="244800"/>
                  <a:ext cx="90792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2131560" y="76320"/>
                  <a:ext cx="90792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222280" y="160200"/>
                  <a:ext cx="163404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4029840" y="76320"/>
                <a:ext cx="1815480" cy="336600"/>
                <a:chOff x="4029840" y="76320"/>
                <a:chExt cx="181548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937760" y="76320"/>
                  <a:ext cx="90756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937760" y="244800"/>
                  <a:ext cx="90756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4029840" y="244800"/>
                  <a:ext cx="90792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4029840" y="76320"/>
                  <a:ext cx="90792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4120560" y="160200"/>
                  <a:ext cx="163404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928840" y="76320"/>
                <a:ext cx="1815480" cy="336600"/>
                <a:chOff x="5928840" y="76320"/>
                <a:chExt cx="181548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836760" y="76320"/>
                  <a:ext cx="90756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836760" y="244800"/>
                  <a:ext cx="90756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928840" y="244800"/>
                  <a:ext cx="90792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928840" y="76320"/>
                  <a:ext cx="90792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019560" y="160200"/>
                  <a:ext cx="1633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827480" y="76320"/>
                <a:ext cx="1815480" cy="336600"/>
                <a:chOff x="7827480" y="76320"/>
                <a:chExt cx="181548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735400" y="76320"/>
                  <a:ext cx="90756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735400" y="244800"/>
                  <a:ext cx="90756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827480" y="244800"/>
                  <a:ext cx="90792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827480" y="76320"/>
                  <a:ext cx="90792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918200" y="160200"/>
                  <a:ext cx="163404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29400" y="6783480"/>
              <a:ext cx="9162000" cy="74520"/>
              <a:chOff x="329400" y="6783480"/>
              <a:chExt cx="91620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29400" y="6783480"/>
                <a:ext cx="1072800" cy="74520"/>
                <a:chOff x="329400" y="6783480"/>
                <a:chExt cx="10728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865800" y="6783480"/>
                  <a:ext cx="5364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29400" y="6783480"/>
                  <a:ext cx="5364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484640" y="6783480"/>
                <a:ext cx="1072800" cy="74520"/>
                <a:chOff x="1484640" y="6783480"/>
                <a:chExt cx="107280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2021040" y="6783480"/>
                  <a:ext cx="5364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484640" y="6783480"/>
                  <a:ext cx="5364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640240" y="6783480"/>
                <a:ext cx="1072800" cy="74520"/>
                <a:chOff x="2640240" y="6783480"/>
                <a:chExt cx="107280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3176640" y="6783480"/>
                  <a:ext cx="5364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640240" y="6783480"/>
                  <a:ext cx="5364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796200" y="6783480"/>
                <a:ext cx="1072800" cy="74520"/>
                <a:chOff x="3796200" y="6783480"/>
                <a:chExt cx="10728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332600" y="6783480"/>
                  <a:ext cx="5364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796200" y="6783480"/>
                  <a:ext cx="5364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951800" y="6783480"/>
                <a:ext cx="1072800" cy="74520"/>
                <a:chOff x="4951800" y="6783480"/>
                <a:chExt cx="107280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488200" y="6783480"/>
                  <a:ext cx="5364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951800" y="6783480"/>
                  <a:ext cx="5364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6107400" y="6783480"/>
                <a:ext cx="1072800" cy="74520"/>
                <a:chOff x="6107400" y="6783480"/>
                <a:chExt cx="107280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643800" y="6783480"/>
                  <a:ext cx="5364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107400" y="6783480"/>
                  <a:ext cx="5364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7263000" y="6783480"/>
                <a:ext cx="1072800" cy="74520"/>
                <a:chOff x="7263000" y="6783480"/>
                <a:chExt cx="10728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799400" y="6783480"/>
                  <a:ext cx="5364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7263000" y="6783480"/>
                  <a:ext cx="5364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8418600" y="6783480"/>
                <a:ext cx="1072800" cy="74520"/>
                <a:chOff x="8418600" y="6783480"/>
                <a:chExt cx="107280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955000" y="6783480"/>
                  <a:ext cx="5364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8418600" y="6783480"/>
                  <a:ext cx="5364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859680" cy="6489720"/>
            <a:chOff x="0" y="108000"/>
            <a:chExt cx="985968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052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920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920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052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27000" y="93672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36720" y="936720"/>
              <a:ext cx="67032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36720" y="1731960"/>
              <a:ext cx="67032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27000" y="173196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3052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920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920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052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27000" y="255888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36720" y="2558880"/>
              <a:ext cx="67032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36720" y="3354480"/>
              <a:ext cx="67032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27000" y="335448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3052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920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920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052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27000" y="417996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36720" y="4179960"/>
              <a:ext cx="67032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36720" y="4975200"/>
              <a:ext cx="67032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27000" y="497520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052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920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920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052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27000" y="580248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36720" y="5802480"/>
              <a:ext cx="67032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36720" y="6597720"/>
              <a:ext cx="67032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7000" y="659772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67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29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29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67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63360" y="93672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73440" y="93672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73440" y="173196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63360" y="173196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67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29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29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67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63360" y="255888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73440" y="255888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73440" y="335448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63360" y="335448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67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29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29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7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63360" y="417996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73440" y="417996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73440" y="497520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3360" y="497520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67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29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29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67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63360" y="580248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73440" y="580248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73440" y="659772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63360" y="659772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0396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65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65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0396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00440" y="93672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10520" y="93672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10520" y="173196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00440" y="173196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0396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5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65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0396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00440" y="255888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10520" y="255888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10520" y="335448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00440" y="335448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0396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65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65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0396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00440" y="417996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10520" y="417996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10520" y="497520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00440" y="497520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0396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65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65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0396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00440" y="580248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10520" y="580248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10520" y="659772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00440" y="659772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41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0252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0252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41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37520" y="936720"/>
              <a:ext cx="67032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46880" y="93672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46880" y="173196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37520" y="1731960"/>
              <a:ext cx="67032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41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0252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0252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41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37520" y="2558880"/>
              <a:ext cx="67032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46880" y="255888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46880" y="335448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37520" y="3354480"/>
              <a:ext cx="67032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41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0252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20252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41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37520" y="4179960"/>
              <a:ext cx="67032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46880" y="417996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46880" y="497520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37520" y="4975200"/>
              <a:ext cx="67032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41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0252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0252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41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437520" y="5802480"/>
              <a:ext cx="67032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346880" y="580248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46880" y="659772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37520" y="6597720"/>
              <a:ext cx="67032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7776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0396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0396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7776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273880" y="93672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183960" y="93672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183960" y="173196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73880" y="173196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7776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0396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0396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7776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73880" y="255888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183960" y="255888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183960" y="335448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73880" y="335448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17776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0396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0396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776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3880" y="417996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183960" y="417996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183960" y="497520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273880" y="497520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7776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0396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0396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17776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73880" y="580248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183960" y="580248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183960" y="659772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273880" y="659772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40" y="10800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32040" y="10800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41760" y="10800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68760" y="108000"/>
              <a:ext cx="67032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78480" y="10800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05480" y="10800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15560" y="10800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42560" y="10800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52280" y="108000"/>
              <a:ext cx="67032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278920" y="10800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89000" y="108000"/>
              <a:ext cx="6706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77800" y="1905120"/>
            <a:ext cx="8750160" cy="1676160"/>
            <a:chOff x="577800" y="1905120"/>
            <a:chExt cx="8750160" cy="1676160"/>
          </a:xfrm>
        </p:grpSpPr>
        <p:sp>
          <p:nvSpPr>
            <p:cNvPr id="279" name=""/>
            <p:cNvSpPr/>
            <p:nvPr/>
          </p:nvSpPr>
          <p:spPr>
            <a:xfrm>
              <a:off x="4952880" y="1905120"/>
              <a:ext cx="43750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52880" y="2743200"/>
              <a:ext cx="43750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7800" y="2743200"/>
              <a:ext cx="43750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7800" y="1905120"/>
              <a:ext cx="43750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42680" y="2057400"/>
              <a:ext cx="8420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42680" y="2057400"/>
            <a:ext cx="842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D94C-E1F1-4F8F-A430-6FBDD5736721}" type="slidenum">
              <a:rPr b="0" lang="es-E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30120" y="6783480"/>
            <a:ext cx="9162720" cy="74520"/>
            <a:chOff x="330120" y="6783480"/>
            <a:chExt cx="9162720" cy="74520"/>
          </a:xfrm>
        </p:grpSpPr>
        <p:sp>
          <p:nvSpPr>
            <p:cNvPr id="289" name=""/>
            <p:cNvSpPr/>
            <p:nvPr/>
          </p:nvSpPr>
          <p:spPr>
            <a:xfrm>
              <a:off x="866520" y="6783480"/>
              <a:ext cx="53604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0120" y="6783480"/>
              <a:ext cx="53640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22120" y="6783480"/>
              <a:ext cx="5364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85360" y="6783480"/>
              <a:ext cx="53640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77720" y="6783480"/>
              <a:ext cx="5364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40960" y="6783480"/>
              <a:ext cx="53640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33680" y="6783480"/>
              <a:ext cx="53604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796920" y="6783480"/>
              <a:ext cx="53640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89280" y="6783480"/>
              <a:ext cx="5364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52520" y="6783480"/>
              <a:ext cx="53640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44880" y="6783480"/>
              <a:ext cx="5364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08120" y="6783480"/>
              <a:ext cx="53640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00840" y="6783480"/>
              <a:ext cx="53604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64080" y="6783480"/>
              <a:ext cx="53640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956440" y="6783480"/>
              <a:ext cx="5364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19680" y="6783480"/>
              <a:ext cx="53640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807080" y="3363840"/>
            <a:ext cx="31752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5480" y="609120"/>
            <a:ext cx="908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383ad"/>
                </a:solidFill>
                <a:latin typeface="Times New Roman"/>
              </a:rPr>
              <a:t>C.P.C.E.C.A.B.A.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41240" y="1700280"/>
            <a:ext cx="883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80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 u="sng">
                <a:solidFill>
                  <a:srgbClr val="404176"/>
                </a:solidFill>
                <a:uFillTx/>
                <a:latin typeface="Times New Roman"/>
              </a:rPr>
              <a:t>Arbitraje y Fideicomiso: aspectos esenciales, financieros y tributarios.</a:t>
            </a:r>
            <a:r>
              <a:rPr b="0" lang="es-ES" sz="24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2" marL="380880" indent="0" algn="r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380880" indent="0" algn="r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380880" indent="0" algn="r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69696"/>
                </a:solidFill>
                <a:latin typeface="Times New Roman"/>
              </a:rPr>
              <a:t>Dr. Orlando Ocampo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ervados todos los derech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4098-6F0D-416F-AC4F-D10ED09EAD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25480" y="609120"/>
            <a:ext cx="908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383ad"/>
                </a:solidFill>
                <a:latin typeface="Times New Roman"/>
              </a:rPr>
              <a:t>Tribunal Arbitral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30120" y="1981080"/>
            <a:ext cx="92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“</a:t>
            </a: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El Arbitraje vale lo que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0" algn="ctr">
              <a:lnSpc>
                <a:spcPct val="1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vale  el Árbitro”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Times New Roman"/>
              </a:rPr>
              <a:t>Jean Rober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ervados todos los derech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ACC1-D165-4AD8-9818-FC78CA690F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44520" y="404640"/>
            <a:ext cx="95616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404176"/>
                </a:solidFill>
                <a:latin typeface="Times New Roman"/>
              </a:rPr>
              <a:t>ANTECEDENTES Y SITUACIONES QUE SUELEN GENERAR CONFLICTOS Y VENTAJAS DE UTILIZAR ARBITRAJE COMO FORMA DE RESOLVERLOS</a:t>
            </a:r>
            <a:endParaRPr b="0" lang="en-US" sz="2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28760" y="1773000"/>
            <a:ext cx="91468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66"/>
                </a:solidFill>
                <a:latin typeface="Arial"/>
              </a:rPr>
              <a:t>Falta de claridad de la ley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66"/>
                </a:solidFill>
                <a:latin typeface="Arial"/>
              </a:rPr>
              <a:t>Poca antigüedad de su utilización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66"/>
                </a:solidFill>
                <a:latin typeface="Arial"/>
              </a:rPr>
              <a:t>Desconocimiento  generalizado de su aplicación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66"/>
                </a:solidFill>
                <a:latin typeface="Arial"/>
              </a:rPr>
              <a:t>Falta de asesoramiento para armar el negocio y suscribir el  contrato.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ervados todos los derech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D80F-0B62-4A06-A13C-5433103EC9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72880" y="609120"/>
            <a:ext cx="928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404176"/>
                </a:solidFill>
                <a:latin typeface="Times New Roman"/>
              </a:rPr>
              <a:t>ANTECEDENTES Y SITUACIONES QUE SUELEN GENERAR CONFLICTOS Y VENTAJAS DE UTILIZAR ARBITRAJE COMO FORMA DE RESOLVERLOS</a:t>
            </a:r>
            <a:endParaRPr b="0" lang="en-US" sz="2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71080" y="1752120"/>
            <a:ext cx="9387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66"/>
                </a:solidFill>
                <a:latin typeface="Arial"/>
              </a:rPr>
              <a:t>Falta de congruencia entre lo proyectado, lo expresado en el contrato, y la forma de ejecución real del mismo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66"/>
                </a:solidFill>
                <a:latin typeface="Arial"/>
              </a:rPr>
              <a:t>Confusión de roles entre fiduciante,  fiduciario, inversores  y beneficiarios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66"/>
                </a:solidFill>
                <a:latin typeface="Arial"/>
              </a:rPr>
              <a:t>Falta de definición del objeto del fideicomiso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ervados todos los derech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6B99-5402-44CF-AD00-ADC2256AD2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88880" y="609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404176"/>
                </a:solidFill>
                <a:latin typeface="Times New Roman"/>
              </a:rPr>
              <a:t>ANTECEDENTES Y SITUACIONES QUE SUELEN GENERAR CONFLICTOS Y VENTAJAS DE UTILIZAR ARBITRAJE COMO FORMA DE RESOLVERLOS</a:t>
            </a:r>
            <a:endParaRPr b="0" lang="en-US" sz="2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1000" y="1981080"/>
            <a:ext cx="928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66"/>
                </a:solidFill>
                <a:latin typeface="Arial"/>
              </a:rPr>
              <a:t>Falta de clara y precisa fijación de los bienes fideicomitidos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66"/>
                </a:solidFill>
                <a:latin typeface="Arial"/>
              </a:rPr>
              <a:t>Falta o confusa delimitación de las responsabilidades y facultades del fiduciario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66"/>
                </a:solidFill>
                <a:latin typeface="Arial"/>
              </a:rPr>
              <a:t>Dificultades de los inversores o beneficiarios para probar los aportes realizados en caso de falta de cumplimiento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ervados todos los derech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7670-B05F-4CAB-BBC5-A49A2C693C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4520" y="609120"/>
            <a:ext cx="956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404176"/>
                </a:solidFill>
                <a:latin typeface="Times New Roman"/>
              </a:rPr>
              <a:t>ANTECEDENTES Y SITUACIONES QUE SUELEN GENERAR CONFLICTOS Y VENTAJAS DE UTILIZAR ARBITRAJE COMO FORMA DE RESOLVERLOS</a:t>
            </a:r>
            <a:endParaRPr b="0" lang="en-US" sz="2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28400" y="1981080"/>
            <a:ext cx="920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66"/>
                </a:solidFill>
                <a:latin typeface="Arial"/>
              </a:rPr>
              <a:t>Carencia de mecanismos  y plazos de negociación, previos a impulsar acciones judiciales o arbitrales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66"/>
                </a:solidFill>
                <a:latin typeface="Arial"/>
              </a:rPr>
              <a:t>Defectuosa redacción de cláusulas de arbitraje.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66"/>
                </a:solidFill>
                <a:latin typeface="Arial"/>
              </a:rPr>
              <a:t>Ventajas del arbitraje: celeridad, economía, inmediación con los árbitros, confidencialidad, oportunidades de encontrar soluciones  transitorias y definitivas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870440" y="2362320"/>
            <a:ext cx="0" cy="457200"/>
          </a:xfrm>
          <a:prstGeom prst="line">
            <a:avLst/>
          </a:prstGeom>
          <a:ln cap="sq" w="12600">
            <a:solidFill>
              <a:srgbClr val="8383a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ervados todos los derech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E847-48A3-4F47-ADF7-E109447A1C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04176"/>
                </a:solidFill>
                <a:latin typeface="Times New Roman"/>
              </a:rPr>
              <a:t>Muchas Gracias</a:t>
            </a:r>
            <a:endParaRPr b="0" lang="en-US" sz="6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430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ff"/>
                </a:solidFill>
                <a:latin typeface="Times New Roman"/>
              </a:rPr>
              <a:t>Tribunal Arbitral del CPCECABA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ff"/>
                </a:solidFill>
                <a:latin typeface="Times New Roman"/>
              </a:rPr>
              <a:t>Viamonte 1461 3º piso, Frente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ff"/>
                </a:solidFill>
                <a:latin typeface="Times New Roman"/>
              </a:rPr>
              <a:t>5 382-9249  Fax: 5 382-9297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ff"/>
                </a:solidFill>
                <a:latin typeface="Times New Roman"/>
              </a:rPr>
              <a:t>trib</a:t>
            </a:r>
            <a:r>
              <a:rPr b="1" lang="es-ES_tradnl" sz="4000" spc="-1" strike="noStrike">
                <a:solidFill>
                  <a:srgbClr val="3333ff"/>
                </a:solidFill>
                <a:latin typeface="Times New Roman"/>
              </a:rPr>
              <a:t>_</a:t>
            </a:r>
            <a:r>
              <a:rPr b="0" lang="es-ES_tradnl" sz="4000" spc="-1" strike="noStrike">
                <a:solidFill>
                  <a:srgbClr val="3333ff"/>
                </a:solidFill>
                <a:latin typeface="Times New Roman"/>
              </a:rPr>
              <a:t>arbitral@consejo.org.ar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ervados todos los derech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3DCB-6C1A-42C1-9A72-6AC229A871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18:57:32Z</dcterms:created>
  <dc:creator>C.P.C.E.C.F.</dc:creator>
  <dc:description/>
  <dc:language>en-US</dc:language>
  <cp:lastModifiedBy>ccastro</cp:lastModifiedBy>
  <cp:lastPrinted>2007-10-10T14:56:45Z</cp:lastPrinted>
  <dcterms:modified xsi:type="dcterms:W3CDTF">2011-08-09T17:05:32Z</dcterms:modified>
  <cp:revision>45</cp:revision>
  <dc:subject/>
  <dc:title>Sin título de diapositiva</dc:title>
</cp:coreProperties>
</file>